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DD8-A034-4F5B-91DC-544F691DE45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9012-ED0D-4F6F-A123-6A444AF21D2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998-6F0D-4F0A-AAED-4AB20AAA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C48-31A5-44AE-B7AB-4CB95879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C18-46F0-47B9-8125-31A1BF7E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CD4-0CBA-493A-9C75-49FC34B1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4F5-C3E2-4563-B296-DD0D403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80D-F111-4936-B4ED-9B2CF555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ED9-C0D8-496D-944F-F94098B1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29F-D699-4DFF-866E-DE9EAFB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4D8-0869-4AC0-AB55-A1C8ADB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0BC-4D36-40BB-B644-DC3E6AF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982-01E0-46F2-9E2D-1A0462B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453-A7E8-4A0C-9349-42C5220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78A-395C-4A44-9A00-B5B12AA4F5FE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00"/>
                </a:solidFill>
                <a:latin typeface="Calibri"/>
              </a:rPr>
              <a:t>Os 10 papéis do gestor</a:t>
            </a:r>
            <a:br>
              <a:rPr sz="2500"/>
            </a:b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Figura elaborada por J. Portela, 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a partir de H. Mintzberg (1975) e A. Rego (199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Marcador de Posição de Conteúdo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6:16:48Z</dcterms:created>
  <dc:creator>Windows User</dc:creator>
  <dc:description/>
  <dc:language>en-US</dc:language>
  <cp:lastModifiedBy>Windows User</cp:lastModifiedBy>
  <dcterms:modified xsi:type="dcterms:W3CDTF">2012-03-15T14:48:49Z</dcterms:modified>
  <cp:revision>16</cp:revision>
  <dc:subject/>
  <dc:title>Os 10 papéis do gestor</dc:title>
</cp:coreProperties>
</file>